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010-1CCC-42F8-8F74-91174FF1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56E-89AC-4D32-939A-CE109A57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736-FFEA-465F-A828-4E874017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8F3-DB62-4ACD-AF37-5ECA96B4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3320-6D64-45E6-B1FE-94B2D375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09E5-B56D-490C-8622-64F242C9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819-D72E-4C91-9A62-7B7B7679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98D-2F25-46FC-874A-67BC7F4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CFC-54FE-4D07-A73E-D06623B6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37B-54B0-488E-96D2-749874B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41B-D122-4929-950A-2DE557C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EAF-916F-4B81-920F-5FE6F454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699-3505-44A9-8676-6C867DC52A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Vacation on the beaches of brazil!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y: sasha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Activities on the beaches!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pacabana Beac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ff"/>
                </a:solidFill>
                <a:latin typeface="Bradley Hand ITC"/>
              </a:rPr>
              <a:t>a beach on the white sands of brazil the most famous for after wedding fun and activ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5867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Fun resorts to vist!..mwa..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each homes:</a:t>
            </a:r>
            <a:r>
              <a:rPr b="0" i="1" lang="en-US" sz="3200" spc="-1" strike="noStrike">
                <a:solidFill>
                  <a:srgbClr val="ff00ff"/>
                </a:solidFill>
                <a:latin typeface="Bradley Hand ITC"/>
              </a:rPr>
              <a:t> a wonderful tropical place to spend your vice.. At the famous Hilton hotel catering to all your pampering needs. A nice way to enjoy their braz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9855200">
            <a:off x="471600" y="41256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2743200" cy="1033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462800">
            <a:off x="5905080" y="4495320"/>
            <a:ext cx="3238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Historical site seeing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ff"/>
                </a:solidFill>
                <a:latin typeface="Bradley Hand ITC"/>
              </a:rPr>
              <a:t>WHILE YOU ARE IN BRAZIL BE SURE TO VIST HISTORCAIL SITES YOU WILL LO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19540200">
            <a:off x="1538280" y="3562200"/>
            <a:ext cx="153036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38480" y="289548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ff"/>
                </a:solidFill>
                <a:latin typeface="Bradley Hand ITC"/>
              </a:rPr>
              <a:t>Enjoy tastey foods! Yum..</a:t>
            </a:r>
            <a:endParaRPr b="0" lang="en-US" sz="4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Rocks: </a:t>
            </a:r>
            <a:r>
              <a:rPr b="0" i="1" lang="en-US" sz="3200" spc="-1" strike="noStrike">
                <a:solidFill>
                  <a:srgbClr val="ff00ff"/>
                </a:solidFill>
                <a:latin typeface="Bradley Hand ITC"/>
              </a:rPr>
              <a:t>brazillian  cusines are so tastey but there only really as good as they say if you vist and try it yourself at one of there reastrunts in braz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2:38Z</dcterms:created>
  <dc:creator>769579</dc:creator>
  <dc:description/>
  <dc:language>en-US</dc:language>
  <cp:lastModifiedBy>769579</cp:lastModifiedBy>
  <dcterms:modified xsi:type="dcterms:W3CDTF">2009-01-23T16:40:16Z</dcterms:modified>
  <cp:revision>2</cp:revision>
  <dc:subject/>
  <dc:title>Vacation on the beaches of brazil!</dc:title>
</cp:coreProperties>
</file>